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1EBD-0733-43C0-BB00-22C00A4100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85736-0C43-435E-A4A9-8A999D5E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1AA118-4409-4A32-9ED2-B8C28252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18F16B-55AE-4633-B0C7-BCB334D0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77C341-2AFF-4C8D-A0A3-842F3615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2FE4FA-4E95-4319-9B06-5BFE0FB8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196F99-8E55-4C35-B93E-71325DEC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C734D4-9119-4C09-80D4-BAC7F758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F2AD7D-CFD3-48F7-AEDB-A1E74D36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C3C7E9-7F51-422B-AE16-9A854AAA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7686A7-6F0A-4F5E-8BB9-652A2B8D59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6E5C4-D946-4D6A-BC55-582988BFC6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76E4-9AA7-4AA5-B9C6-128A6A80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21B88-D3D7-4AFC-9F33-88AF0C05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95D21-2017-4745-8F5A-0DB020A3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A0A34-5BC6-421C-AE37-75DB58F7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B3634-E008-4506-9093-897B3D31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C1463-7010-4009-958E-F4465828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B7B72-40F7-4143-8ABA-16D19E38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6590A-1380-4E0B-B071-FFFE2C7A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68497-07E7-4A26-ADFC-828DB5A8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1A85F-4099-4800-8FBB-1C4596AD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06B2F-00C0-4DFA-955C-7C4D56D8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028AA-18CF-42CE-8B15-7242AD88E5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23AEC-12D3-498F-A67B-603A261D5C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9F3E75-F885-4841-8962-7800B47332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676CBF-E0DE-4519-B483-6B472EDB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042D48-A81D-4937-8E37-F3440437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3CA09A-DF24-4C53-8C26-85919C6E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6A7623-F86D-4A5A-B68D-BAC03069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A9483C-AEBE-4B7E-8785-49CDFD25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BC678F-11EE-4E85-AA19-83928DC8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905BFE-D1F5-48BB-936E-7F68D6D7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B6201B-255F-4036-9009-42A37D8D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39B94-B3DE-4B0D-8C20-E33FF5CE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60E892-4C3D-4413-98BA-BDC607A2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612D87-D089-4509-B875-420F084F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D21B02-0028-4BDD-B57E-60BD85A83B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04054-458C-4DE2-A81C-FF266DB530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D16C2-6BF1-464A-8945-017C5C84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98918-0B5D-4B23-97E3-15FC1CF3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6BA0C-8329-4FD7-8594-3FBECE79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0EF51-CF55-4239-92DD-378EE72F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4C6C5-F8EE-4E1D-A2B1-7C8D2226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878F1-FB9B-4FBF-9DA8-CF7318D1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86199-BBFA-49EE-B88F-803F7AE0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F3EDD-9319-4ED5-A3D7-ADB6E0E5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EF2E4-E049-4A29-A0D4-517A3A2B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4C71C-2674-498E-A4C1-ED9F1017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236A6-EA06-46FF-BB85-4532FA39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80A86-3B14-4146-85E7-EBBE0B6C38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3F0E8-631A-43BE-81F6-5E5ADD934D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30484-2CBB-4961-8690-760B32FC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DAF34-EEAE-4577-8662-B538F224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A5245-86B4-4F3B-9B24-7A407E4D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6EC74-A703-482F-A8DE-4E78D739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10AE5-AB95-44E2-AE42-7A935F75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61018-F039-43C6-90A5-0D62EB49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89D7F-A289-43D3-8049-7DEA62A6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7F66A-E3C1-4AEB-B51C-3D27EBAF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61608-3F14-48BF-89CA-FBD19803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B77CF-C5CD-4FDC-8A31-E5297258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C3464-5501-43AD-9B11-2724618A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1AF75-AE2A-44C8-9167-E58E36C1A0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85BC0-A9C5-4968-A824-56B1B43F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81A1B-C009-466C-A9C8-DC24D54E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4BA49-2324-4ED9-AB41-CFA95C0F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880C3-8079-4395-8B7A-BDAEDC01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FE594-D3FB-43DA-8771-C6869BEC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AF535-BED3-4F18-9A3C-9C136A78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D9CF1-F2D2-4E52-99AB-14B6CB35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5B4F7-AF61-480A-9E77-9888EE42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13585-BDAB-46C0-9EDB-08536F97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66464-8DE7-48D2-859D-D3904052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D9D4B-A0EA-4FFA-9621-D8AEA2EA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E37FE-8355-4F86-BCD2-7E1C366A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2839D-66B2-4C03-BCF9-0D09483B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79D5C-CBFB-4A07-8FA1-D4D65461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F3530-0048-49F8-8133-012D113C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8A9C6-FA41-4645-9592-2CEE8DF5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5DD88-EC56-4775-9CDB-ED0ED829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98F05-239D-40DB-9908-70492D58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AAFDA-49C4-4B8F-A505-64AC12EF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4AD39-414E-4DAD-A20D-2A228998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48D7E-1312-4E7C-AFE3-431410B1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A7227-AD78-453F-96AF-8FF96A45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D99FD-ECE6-409F-B031-937DF09B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383FB-EBDF-4835-A764-0770C345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56862-A10B-4818-BD5F-E722AB75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79E31-44A6-4296-83F2-245A1136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601D5-5561-4E70-9A32-07491095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84604-41EC-4AF9-8634-1249CADE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65DBF-3DA0-4D28-BD73-0623F2D7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E6638-3201-46C2-B2C5-2A51197C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AC37A-BDC6-49D1-82AA-A9D7493B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EE3FB-85DB-4C58-892D-5A777E9F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373A8-F0CA-4E43-BA23-CBFD07C5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226A4-247E-4FA8-9F58-8175FABA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6E11C-29F3-4741-8729-A097C125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50615-815B-4ACB-862E-90682807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F621C-D563-441B-B088-E0849CFF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E09D2-FFBD-45A1-A302-6ACADA94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B0C4A-B475-4988-899D-A159D663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93353-F377-47D4-ABE1-3BD367B5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E95B8-E5EB-4EBF-AD18-21199603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0F6F2-C0BC-4310-BE43-23C0CA2C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9631C-4D7C-4E03-9A53-21DDA7BC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B3203-CB7D-4D38-9A67-B3BFBCEA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E73B6-1772-4BE6-BF16-CBA048F1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1DA80-8B8C-4CF3-88C6-BBCBEFA0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160AE-C218-4DBA-BD5B-A49288BB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2AA5-C0A1-4B7B-84E0-3D95F003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8DEF8-0FA4-48BE-ACBC-33783B30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881BC-A1AD-4F71-A7EF-9F8D3611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E2AD8-9626-4260-B985-CD424458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2A6DF-994E-4C23-A6CC-320D8214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E28FC4-894D-48FB-909B-7D8485A4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FC093-6842-4682-AD66-75312064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AB36C-7531-49E7-B7C0-B4255AE7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DD703-A98F-4C9F-8B65-E0E631F6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F6FB2-31EE-400B-8148-13653546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C695EB-3658-406B-8544-B8B13E76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969CCD-0412-4B1A-B82B-62B34A17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0A417-96AE-42E8-8D6F-1997E70B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08543-99A6-432D-B13F-4EECF3ED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BBA37-B28A-475C-816C-9EA923F1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1689D-BF33-483A-85C3-B4685E62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CE2CCD-5314-4275-B313-B8D9571E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93F56-C225-4A25-B0D4-4575031E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2AE86-91A4-4EB0-A663-7356862C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A8E5C-4DE9-448C-896A-D25862A0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BBF61-1F57-4F1E-B70D-0F4F5565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DC983-7856-4C95-BADE-1C809FB3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626DF2-02FC-48E5-8A9F-65BCF248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70075-9565-4E24-BE2A-063C39FF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C6301-F13C-4390-BB1C-679275F3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60477-9F86-4D23-8BD3-529C9970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8E5D90-DF77-430D-A184-228CDE83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7DE81-31F0-4E55-8FA8-8E811959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6967A1-B50B-413C-BF18-B3766CD0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958220-751B-4E37-A23B-742BFB3C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14050-E61E-4F33-9EE2-31811A19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5900D9-B828-4EDF-8E80-31065D7E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8E45D8-9576-450B-B9E6-99B3709E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561E9-01B5-4CF5-B46F-F1697259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B7686-55CF-4960-A319-CBA84F16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A0981-A3C0-4C50-8656-8F03C45B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922E4-4A00-4D3A-94B1-A14F3B5B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5F885-9269-45B3-83D1-19E097D7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BB8FF1-F5CE-48D3-A80A-609C88F0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4A7C5-F0BD-40D0-A52D-02B7EF48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BB37D-705B-4AE0-BEBF-875D7876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20A584-6C85-440B-9E27-F6872A17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E42DA-404D-43CC-B6DD-92F8AB61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9A4D1-06DB-4332-A718-E93DE37B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E94B8-5C77-46F1-B6F0-617CCDB9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A2001-735C-4965-9819-AFC1E0C0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EFB66-BDDF-4285-91C1-2F7DDFCA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34B888-4ACF-4006-817F-2723A5EA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FDED21-6B84-4DC8-AD67-098FFCDE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75180B-96A7-4185-9204-785E9A72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4BE01-BB02-43D2-895B-CCF20F89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3CC20A-62A9-4AA7-BB34-A186DAC6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B39341-897B-46AB-B9AE-F6739562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5EB817-29F2-4668-9113-81C3BC90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013405-46AE-495E-9E49-A64B5413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AC3A29-6C45-472B-AFD2-0F423E0D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B191F1-2888-48DD-BFF2-DE52E38AA2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1C0E0E-3B7C-4E7F-AAF4-34E1EA62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D90E4F-682D-4EB8-A587-B08973B7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D62BE5-86A7-4635-BDB0-3AE7AEA4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47D3AF-547A-464F-9FF8-93946FD4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36EC55-7CBA-478B-B622-32F6CE69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AB3B6-F5ED-4615-A646-EA81218F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EB840B-3581-4D5E-9AE3-72A8EE2B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E9077-8939-4406-B34A-8C06DA8A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65F72-E0B8-44D3-8297-FB7C3DA2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36AF74-49AF-4B25-90B1-7A7FD016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9A21C6-3C1C-432C-AD72-93298697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87E79E-507D-4069-ABD4-C1EE0F5D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8BA50F-2379-4F70-B4C5-ED6EA9AC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461175-0ED1-4134-99BF-AD6B729C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494152-50EC-4C78-A99A-E10FA5C3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18AD1-741D-4DED-8B5D-6641AB23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4E3DF-D105-411C-8806-4CECF2D0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74CA18-0597-4A3E-89C2-B1787BDA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731BA5-106E-4B1B-9B23-12E7CCFD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2CED9A-4193-4D68-8328-F219454C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D96024-58E8-4E80-B482-B3E2FBCA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3D519E-E677-4F50-94F2-6CAEF104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2A5725-019E-43C2-B992-A1BE0B50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3F83BB-4ED3-4C47-9632-51B157E8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17EE78-AC2F-43CA-9EFC-65ED8EEE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50F9E5-0495-4598-B682-E6CCD00B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3FC887-36F9-4CFC-8DEB-70944372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DA7C81-1B88-491C-A5A0-939800FE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E4556A-C2CB-4A64-B5B8-6251CCDF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AF8BB3-A9DD-472B-91C0-C63FAE61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75FF91-E9C9-4D38-98FA-E8C9B4ED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01B4FD-82EA-4A31-B29F-991E4C85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DCF70-C402-407F-8E0E-BCC1DFA9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DA6870-60E7-40C1-955F-F8B7B0AB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74CE6C-3D44-4E00-BB37-E8CABC3F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7A0BAA-674D-4B4A-8540-7FB2BB24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A8996D-7C63-41B4-A76C-DBEE0F45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1A192C-E6BD-4C82-8776-B9B14E16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3C4C5C-BB3C-41A5-8A86-8A0E0328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505565-1B69-49A4-A805-457D1D17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328F13-FE53-439C-8772-9E9E912E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BE2BAE-E0EB-4BF9-A108-83B73391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1E150A-09BE-451C-9D76-F5CF8C30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C47B-AA99-460D-B1A9-CF1E4563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3830FF-11E4-44EA-8CA1-E31F987C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A349FD-AA4C-4FAA-851F-7F015495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27F725-0461-4C56-929F-69308256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F9959B-D52F-4357-A22E-CF507ABB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DE788D-E25B-4068-8943-092FFFF0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9CF767-2B6F-4D95-A3E9-9B2BA22C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9460E3-81A0-4D5D-9503-89980C4749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DDA6-0D19-4AD2-8DEC-18CF3D6533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21B0E-3896-4A0C-965A-EC706195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95575-651A-4AD8-A179-D19D5C7E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606D-9824-4A61-9378-37A36A05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9DB03-4B9C-494B-8981-B16C9973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22B26-3191-4C8D-B60F-E5BADBD2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3E56F-51A2-4837-AFCA-91A038CC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B9E3-786E-4B4A-A2E8-8EAB9A63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E680F-0F0E-40C7-AA65-87585A59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CFEDF-9502-4F4E-A107-7EB9C7D2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EED99-5099-4B51-9E76-C311439A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65C7E-7A95-4AF6-AE7D-F61467FA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CB3CF-83A8-4337-B86F-EF1CBA1200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3907F-EE59-4C50-9871-284915391E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9A05E-CEA4-4E3B-9358-5B7BF8AE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CC108-9F00-4E2C-9048-9B3AC0B6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444E93-1434-4664-9DD4-0F40A544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2D0EF-5B33-48FA-8E02-1E0B29A5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13CA6-BF8F-45AC-AAF5-FB909B57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3CE8EB-3DB3-471C-8E6A-38C9C3F2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DEF53B-D022-4757-909C-71E5C5FD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4C845-99CA-47DA-9B95-5E8C89B0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98875E-9D19-4128-8570-9EAFAB91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D3705-3D21-4F2D-8FC8-49612801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22977-C588-4B9D-B37B-54CD8832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8B76F-4929-46E7-B623-1BB2B776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F6657E-B7FB-45D0-A506-FFE7B5B6EA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866C6D-6459-4C33-AB6B-137F2B18F1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17C6E7-54B1-4A95-981D-30BEA739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BB7736-F982-4A0B-B6B0-227A1A37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9FC2D3-2F04-483F-89A3-7979858C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A67A44-C8F1-45D6-A6D0-839002C5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1FD8FE-626A-435F-8610-E07738F9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497D74-3E09-43BF-A547-98CF6E32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6C17E1-1CC7-4ACC-A41F-2BB2B1A9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50F8AD-C62C-4723-AFB8-C9368B31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3E096-D006-42B4-AA19-94ACB3CA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1109DA-0BCB-4D84-BF46-A3535648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7FF745-2C86-401A-AA13-DA78B4A1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410B93-8B25-4757-AC8E-3AC4028816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1727F-51D8-4810-AA4D-67CDFC9810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C52D6-4678-4106-8B13-8E39F424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88596-A927-40F2-8A07-83F9E6C0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72FFD-0FCF-441D-91D9-24FBB5F0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90CA0-407D-4BC6-A32F-FB3E363A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811F9-221E-43F0-AE20-4290E795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52F30-00D6-4140-B9E0-C528B731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D72C5-D906-44DF-BE8E-C3CCBAB6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47E8-1D37-4CCB-A4E2-638FB3D3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08761-AC4E-4823-B23F-0A4389A6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8BF19-A8A1-42D6-9ADB-D4FD7DCF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9F912-0DA3-44FC-BB8D-0E826585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164F9-77DF-4480-A554-6068907351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C99D3-9BC5-4ED4-AB67-C1550686EC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AB8B59-5124-4BC5-B8B5-A0521113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4AC70A-7B00-4B47-B654-1FABD0A5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1851D-7F94-491D-998C-A413CB25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6F3A56-D36F-4D09-B615-0DBEB0FE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F730-EFDB-48E0-BBEA-CFFC8E5A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9C1199-D431-44EC-9B9A-C559926E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F5A51-FEBE-4039-8F4E-50DE6E18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2B437-855D-4E55-8F64-436F2C5C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9C6C11-6998-41BF-99C0-4AAF4CDF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20E77-6C16-40A7-BC51-BC900735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82E9D-F2F5-485B-83FE-81670CC1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85E4D-FF40-480A-B885-94B5954EFD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848643-D616-4B47-A391-4382423DE3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D2A086-043E-4E6D-AD20-DB90EC4A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478B5D-8F67-4842-98DA-10A1F037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D20E-EE41-427B-8743-E7527AB556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26CE-2D23-4BF3-A1B9-F213F6D9B81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BAB2-3768-4678-8B23-D5E289EACB8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5204-07DC-47E4-B11C-98A3A2A9D75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499E-BE82-4724-9900-6D2FC7DA82A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E1AA-7354-4D19-8D09-859240760F9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DC59-0D3B-4594-8766-D7A306719B4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8B0A-CC13-4311-A2CD-349E896FA04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99DC-2A97-4A45-AACD-0942CEB996B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F49F-0110-455C-8EDD-0C5D05E3F77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2D0C-B24E-4713-97B7-9FD05DEA2F0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90E5-5D69-4406-819B-3AA3F541992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9D38-A240-406C-A423-96C6F99C66F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7E6D-6152-40EE-A630-C0636B98B19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9F76-9522-46E7-B488-A74FF1C26F3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6465-B2A4-4F52-B61F-43A97EC30AC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0844-01EF-42EE-9A9E-7A06F8F49DB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3167-F679-4B5B-ACAD-55188D3D7D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C6A4-BC0E-4574-BF6E-541F535198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70EF-954B-48AC-9056-6C27D6C723C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76D9-9A44-44D0-9DEE-70E44F7E09D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E710-CDB4-4B98-AF49-D8847CCD7F4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0AE0-2F4A-4320-BDC5-22423F47D35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EB69-0A45-4FBF-8194-DE24A11B3B8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2205000" y="264492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1655640" y="259884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习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方形和正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文本框 1"/>
          <p:cNvSpPr/>
          <p:nvPr/>
        </p:nvSpPr>
        <p:spPr>
          <a:xfrm>
            <a:off x="228600" y="896760"/>
            <a:ext cx="83757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把两个长都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，宽都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的长方形纸板拼成一个正方形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文本框 4"/>
          <p:cNvSpPr/>
          <p:nvPr/>
        </p:nvSpPr>
        <p:spPr>
          <a:xfrm>
            <a:off x="223920" y="1889280"/>
            <a:ext cx="7745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这个正方形的周长是多少厘米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文本框 5"/>
          <p:cNvSpPr/>
          <p:nvPr/>
        </p:nvSpPr>
        <p:spPr>
          <a:xfrm>
            <a:off x="236520" y="3457440"/>
            <a:ext cx="77454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如果拼成一个长方形，周长又是多少厘米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文本框 6"/>
          <p:cNvSpPr/>
          <p:nvPr/>
        </p:nvSpPr>
        <p:spPr>
          <a:xfrm>
            <a:off x="1930320" y="2408400"/>
            <a:ext cx="24465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=1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文本框 8"/>
          <p:cNvSpPr/>
          <p:nvPr/>
        </p:nvSpPr>
        <p:spPr>
          <a:xfrm>
            <a:off x="920880" y="2857680"/>
            <a:ext cx="550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拼成正方形的周长是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文本框 9"/>
          <p:cNvSpPr/>
          <p:nvPr/>
        </p:nvSpPr>
        <p:spPr>
          <a:xfrm>
            <a:off x="1930320" y="4238640"/>
            <a:ext cx="33433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8+2)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=2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文本框 10"/>
          <p:cNvSpPr/>
          <p:nvPr/>
        </p:nvSpPr>
        <p:spPr>
          <a:xfrm>
            <a:off x="849240" y="4883040"/>
            <a:ext cx="550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拼成长方形的周长是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248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9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250" name="椭圆 4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1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椭圆 6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3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5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6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7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文本框 1"/>
          <p:cNvSpPr/>
          <p:nvPr/>
        </p:nvSpPr>
        <p:spPr>
          <a:xfrm>
            <a:off x="233280" y="784080"/>
            <a:ext cx="8358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个正方形的鸡舍如下图，一面靠墙，三面用篱笆围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组合 39"/>
          <p:cNvGrpSpPr/>
          <p:nvPr/>
        </p:nvGrpSpPr>
        <p:grpSpPr>
          <a:xfrm>
            <a:off x="6283440" y="1590480"/>
            <a:ext cx="1393560" cy="981360"/>
            <a:chOff x="6283440" y="1590480"/>
            <a:chExt cx="1393560" cy="981360"/>
          </a:xfrm>
        </p:grpSpPr>
        <p:sp>
          <p:nvSpPr>
            <p:cNvPr id="1260" name="文本框 4"/>
            <p:cNvSpPr/>
            <p:nvPr/>
          </p:nvSpPr>
          <p:spPr>
            <a:xfrm>
              <a:off x="6296760" y="1691280"/>
              <a:ext cx="1287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直接连接符 5"/>
            <p:cNvSpPr/>
            <p:nvPr/>
          </p:nvSpPr>
          <p:spPr>
            <a:xfrm>
              <a:off x="6296760" y="1842480"/>
              <a:ext cx="1287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文本框 6"/>
            <p:cNvSpPr/>
            <p:nvPr/>
          </p:nvSpPr>
          <p:spPr>
            <a:xfrm>
              <a:off x="6283440" y="2320200"/>
              <a:ext cx="21384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直接连接符 8"/>
            <p:cNvSpPr/>
            <p:nvPr/>
          </p:nvSpPr>
          <p:spPr>
            <a:xfrm flipV="1">
              <a:off x="649728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直接连接符 9"/>
            <p:cNvSpPr/>
            <p:nvPr/>
          </p:nvSpPr>
          <p:spPr>
            <a:xfrm flipV="1">
              <a:off x="637380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直接连接符 10"/>
            <p:cNvSpPr/>
            <p:nvPr/>
          </p:nvSpPr>
          <p:spPr>
            <a:xfrm flipV="1">
              <a:off x="662544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直接连接符 11"/>
            <p:cNvSpPr/>
            <p:nvPr/>
          </p:nvSpPr>
          <p:spPr>
            <a:xfrm flipV="1">
              <a:off x="674028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直接连接符 12"/>
            <p:cNvSpPr/>
            <p:nvPr/>
          </p:nvSpPr>
          <p:spPr>
            <a:xfrm flipV="1">
              <a:off x="685008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直接连接符 13"/>
            <p:cNvSpPr/>
            <p:nvPr/>
          </p:nvSpPr>
          <p:spPr>
            <a:xfrm flipV="1">
              <a:off x="694908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直接连接符 14"/>
            <p:cNvSpPr/>
            <p:nvPr/>
          </p:nvSpPr>
          <p:spPr>
            <a:xfrm flipV="1">
              <a:off x="705852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直接连接符 15"/>
            <p:cNvSpPr/>
            <p:nvPr/>
          </p:nvSpPr>
          <p:spPr>
            <a:xfrm flipV="1">
              <a:off x="716832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直接连接符 16"/>
            <p:cNvSpPr/>
            <p:nvPr/>
          </p:nvSpPr>
          <p:spPr>
            <a:xfrm flipV="1">
              <a:off x="728316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直接连接符 17"/>
            <p:cNvSpPr/>
            <p:nvPr/>
          </p:nvSpPr>
          <p:spPr>
            <a:xfrm flipV="1">
              <a:off x="739260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直接连接符 18"/>
            <p:cNvSpPr/>
            <p:nvPr/>
          </p:nvSpPr>
          <p:spPr>
            <a:xfrm flipV="1">
              <a:off x="750744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矩形 38"/>
            <p:cNvSpPr/>
            <p:nvPr/>
          </p:nvSpPr>
          <p:spPr>
            <a:xfrm>
              <a:off x="6701760" y="1842120"/>
              <a:ext cx="690480" cy="72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5" name="文本框 40"/>
          <p:cNvSpPr/>
          <p:nvPr/>
        </p:nvSpPr>
        <p:spPr>
          <a:xfrm>
            <a:off x="633240" y="2293920"/>
            <a:ext cx="5810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需要准备多长的篱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文本框 41"/>
          <p:cNvSpPr/>
          <p:nvPr/>
        </p:nvSpPr>
        <p:spPr>
          <a:xfrm>
            <a:off x="633240" y="3886200"/>
            <a:ext cx="69548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现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长的篱笆，按上图能围成边长是多少米的正方形鸡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文本框 42"/>
          <p:cNvSpPr/>
          <p:nvPr/>
        </p:nvSpPr>
        <p:spPr>
          <a:xfrm>
            <a:off x="1442880" y="2959200"/>
            <a:ext cx="29149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=1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文本框 44"/>
          <p:cNvSpPr/>
          <p:nvPr/>
        </p:nvSpPr>
        <p:spPr>
          <a:xfrm>
            <a:off x="1273320" y="5062680"/>
            <a:ext cx="32544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7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÷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=9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文本框 45"/>
          <p:cNvSpPr/>
          <p:nvPr/>
        </p:nvSpPr>
        <p:spPr>
          <a:xfrm>
            <a:off x="1173240" y="3603600"/>
            <a:ext cx="3830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需要准备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米的篱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文本框 46"/>
          <p:cNvSpPr/>
          <p:nvPr/>
        </p:nvSpPr>
        <p:spPr>
          <a:xfrm>
            <a:off x="866880" y="5753160"/>
            <a:ext cx="53434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能围成边长是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米的正方形鸡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282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3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284" name="椭圆 4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5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6" name="椭圆 6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7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9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0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1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92" name="文本框 2"/>
          <p:cNvSpPr/>
          <p:nvPr/>
        </p:nvSpPr>
        <p:spPr>
          <a:xfrm>
            <a:off x="6754680" y="2417760"/>
            <a:ext cx="9972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2658960" cy="525600"/>
            <a:chOff x="0" y="101520"/>
            <a:chExt cx="2658960" cy="525600"/>
          </a:xfrm>
        </p:grpSpPr>
        <p:pic>
          <p:nvPicPr>
            <p:cNvPr id="999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18080" y="101520"/>
              <a:ext cx="25408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350640" cy="272160"/>
              <a:chOff x="0" y="197280"/>
              <a:chExt cx="350640" cy="272160"/>
            </a:xfrm>
          </p:grpSpPr>
          <p:sp>
            <p:nvSpPr>
              <p:cNvPr id="1001" name="椭圆 3"/>
              <p:cNvSpPr/>
              <p:nvPr/>
            </p:nvSpPr>
            <p:spPr>
              <a:xfrm rot="16200000">
                <a:off x="226800" y="356400"/>
                <a:ext cx="90720" cy="11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640" y="339480"/>
                <a:ext cx="19800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26800" y="240120"/>
                <a:ext cx="90720" cy="11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640" y="213480"/>
                <a:ext cx="19800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7840"/>
                <a:ext cx="28080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6160"/>
                <a:ext cx="28080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600"/>
                <a:ext cx="28080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28080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文本框 1"/>
          <p:cNvSpPr/>
          <p:nvPr/>
        </p:nvSpPr>
        <p:spPr>
          <a:xfrm>
            <a:off x="647640" y="2479680"/>
            <a:ext cx="14763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方形和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20"/>
          <p:cNvSpPr/>
          <p:nvPr/>
        </p:nvSpPr>
        <p:spPr>
          <a:xfrm flipV="1" rot="10800000">
            <a:off x="2124000" y="1518120"/>
            <a:ext cx="214560" cy="3868920"/>
          </a:xfrm>
          <a:custGeom>
            <a:avLst/>
            <a:gdLst>
              <a:gd name="textAreaLeft" fmla="*/ 0 w 214560"/>
              <a:gd name="textAreaRight" fmla="*/ 77400 w 214560"/>
              <a:gd name="textAreaTop" fmla="*/ 65520 h 3868920"/>
              <a:gd name="textAreaBottom" fmla="*/ 3803400 h 386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85"/>
                  <a:pt x="10800" y="1170"/>
                </a:cubicBezTo>
                <a:lnTo>
                  <a:pt x="10800" y="9630"/>
                </a:lnTo>
                <a:cubicBezTo>
                  <a:pt x="10800" y="10215"/>
                  <a:pt x="16200" y="10800"/>
                  <a:pt x="21600" y="10800"/>
                </a:cubicBezTo>
                <a:cubicBezTo>
                  <a:pt x="16200" y="10800"/>
                  <a:pt x="10800" y="11385"/>
                  <a:pt x="10800" y="11970"/>
                </a:cubicBezTo>
                <a:lnTo>
                  <a:pt x="10800" y="20430"/>
                </a:lnTo>
                <a:cubicBezTo>
                  <a:pt x="10800" y="2101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圆角矩形 8"/>
          <p:cNvSpPr/>
          <p:nvPr/>
        </p:nvSpPr>
        <p:spPr>
          <a:xfrm>
            <a:off x="2340000" y="1413000"/>
            <a:ext cx="2232000" cy="576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圆角矩形 9"/>
          <p:cNvSpPr/>
          <p:nvPr/>
        </p:nvSpPr>
        <p:spPr>
          <a:xfrm>
            <a:off x="2340000" y="2479680"/>
            <a:ext cx="2232000" cy="971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圆角矩形 10"/>
          <p:cNvSpPr/>
          <p:nvPr/>
        </p:nvSpPr>
        <p:spPr>
          <a:xfrm>
            <a:off x="2338560" y="3668760"/>
            <a:ext cx="2233440" cy="979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圆角矩形 11"/>
          <p:cNvSpPr/>
          <p:nvPr/>
        </p:nvSpPr>
        <p:spPr>
          <a:xfrm>
            <a:off x="2338560" y="4959360"/>
            <a:ext cx="2233440" cy="574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右箭头 12"/>
          <p:cNvSpPr/>
          <p:nvPr/>
        </p:nvSpPr>
        <p:spPr>
          <a:xfrm>
            <a:off x="4780080" y="1592280"/>
            <a:ext cx="360360" cy="217440"/>
          </a:xfrm>
          <a:prstGeom prst="rightArrow">
            <a:avLst>
              <a:gd name="adj1" fmla="val 50000"/>
              <a:gd name="adj2" fmla="val 497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右箭头 13"/>
          <p:cNvSpPr/>
          <p:nvPr/>
        </p:nvSpPr>
        <p:spPr>
          <a:xfrm>
            <a:off x="4780080" y="2882880"/>
            <a:ext cx="360360" cy="216000"/>
          </a:xfrm>
          <a:prstGeom prst="rightArrow">
            <a:avLst>
              <a:gd name="adj1" fmla="val 50000"/>
              <a:gd name="adj2" fmla="val 5012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右箭头 15"/>
          <p:cNvSpPr/>
          <p:nvPr/>
        </p:nvSpPr>
        <p:spPr>
          <a:xfrm>
            <a:off x="4780080" y="4051440"/>
            <a:ext cx="360360" cy="215640"/>
          </a:xfrm>
          <a:prstGeom prst="rightArrow">
            <a:avLst>
              <a:gd name="adj1" fmla="val 50000"/>
              <a:gd name="adj2" fmla="val 5021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文本框 16"/>
          <p:cNvSpPr/>
          <p:nvPr/>
        </p:nvSpPr>
        <p:spPr>
          <a:xfrm>
            <a:off x="2397240" y="1413000"/>
            <a:ext cx="2317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边形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17"/>
          <p:cNvSpPr/>
          <p:nvPr/>
        </p:nvSpPr>
        <p:spPr>
          <a:xfrm>
            <a:off x="2330280" y="2495520"/>
            <a:ext cx="23828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方形和正方形的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18"/>
          <p:cNvSpPr/>
          <p:nvPr/>
        </p:nvSpPr>
        <p:spPr>
          <a:xfrm>
            <a:off x="2333520" y="3689280"/>
            <a:ext cx="23814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方形和正方形的周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19"/>
          <p:cNvSpPr/>
          <p:nvPr/>
        </p:nvSpPr>
        <p:spPr>
          <a:xfrm>
            <a:off x="2330280" y="4959360"/>
            <a:ext cx="2387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画图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20"/>
          <p:cNvSpPr/>
          <p:nvPr/>
        </p:nvSpPr>
        <p:spPr>
          <a:xfrm>
            <a:off x="5450040" y="1238400"/>
            <a:ext cx="269208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边形，四个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21"/>
          <p:cNvSpPr/>
          <p:nvPr/>
        </p:nvSpPr>
        <p:spPr>
          <a:xfrm>
            <a:off x="5450040" y="2343240"/>
            <a:ext cx="3824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形：对边相等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直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22"/>
          <p:cNvSpPr/>
          <p:nvPr/>
        </p:nvSpPr>
        <p:spPr>
          <a:xfrm>
            <a:off x="5450040" y="2998800"/>
            <a:ext cx="3824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方形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条边相等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直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文本框 23"/>
          <p:cNvSpPr/>
          <p:nvPr/>
        </p:nvSpPr>
        <p:spPr>
          <a:xfrm>
            <a:off x="5299200" y="3786120"/>
            <a:ext cx="38242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形的周长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长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宽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文本框 24"/>
          <p:cNvSpPr/>
          <p:nvPr/>
        </p:nvSpPr>
        <p:spPr>
          <a:xfrm>
            <a:off x="5299200" y="4192560"/>
            <a:ext cx="3824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方形的周长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边长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028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9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030" name="椭圆 3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1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椭圆 29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8" name="文本框 1"/>
          <p:cNvSpPr/>
          <p:nvPr/>
        </p:nvSpPr>
        <p:spPr>
          <a:xfrm>
            <a:off x="463680" y="765000"/>
            <a:ext cx="2043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一、填一填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4"/>
          <p:cNvSpPr/>
          <p:nvPr/>
        </p:nvSpPr>
        <p:spPr>
          <a:xfrm>
            <a:off x="369720" y="1203480"/>
            <a:ext cx="724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形的（    ）相等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角都是（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5"/>
          <p:cNvSpPr/>
          <p:nvPr/>
        </p:nvSpPr>
        <p:spPr>
          <a:xfrm>
            <a:off x="380880" y="1695600"/>
            <a:ext cx="724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正方形边长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米，它的周长是（   ）分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6"/>
          <p:cNvSpPr/>
          <p:nvPr/>
        </p:nvSpPr>
        <p:spPr>
          <a:xfrm>
            <a:off x="369720" y="2314440"/>
            <a:ext cx="8115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长方形的长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厘米，宽比长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厘米，它的周长是（    ）厘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8"/>
          <p:cNvSpPr/>
          <p:nvPr/>
        </p:nvSpPr>
        <p:spPr>
          <a:xfrm>
            <a:off x="369720" y="2967120"/>
            <a:ext cx="853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围着一个正方形的游泳池走一圈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米，这个游泳池的边长是（  ）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文本框 9"/>
          <p:cNvSpPr/>
          <p:nvPr/>
        </p:nvSpPr>
        <p:spPr>
          <a:xfrm>
            <a:off x="463680" y="3835440"/>
            <a:ext cx="81151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图是一个长方形，长和宽如图所示。在这个长方形中剪出一个最大的正方形，正方形的边长是（    ）厘米，周长是（   ）厘米，剩下的图形是一个（    ）形，长是（   ）厘米，宽是（   ）厘米，它的周长是（    ）厘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10"/>
          <p:cNvSpPr/>
          <p:nvPr/>
        </p:nvSpPr>
        <p:spPr>
          <a:xfrm>
            <a:off x="4178160" y="5629320"/>
            <a:ext cx="158436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文本框 11"/>
          <p:cNvSpPr/>
          <p:nvPr/>
        </p:nvSpPr>
        <p:spPr>
          <a:xfrm>
            <a:off x="4535640" y="5238720"/>
            <a:ext cx="8697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12"/>
          <p:cNvSpPr/>
          <p:nvPr/>
        </p:nvSpPr>
        <p:spPr>
          <a:xfrm>
            <a:off x="5865840" y="5805360"/>
            <a:ext cx="8697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1"/>
          <p:cNvSpPr/>
          <p:nvPr/>
        </p:nvSpPr>
        <p:spPr>
          <a:xfrm>
            <a:off x="1873080" y="1324080"/>
            <a:ext cx="7527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对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4"/>
          <p:cNvSpPr/>
          <p:nvPr/>
        </p:nvSpPr>
        <p:spPr>
          <a:xfrm>
            <a:off x="4805280" y="1324080"/>
            <a:ext cx="75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直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5"/>
          <p:cNvSpPr/>
          <p:nvPr/>
        </p:nvSpPr>
        <p:spPr>
          <a:xfrm>
            <a:off x="5164200" y="1793880"/>
            <a:ext cx="465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6"/>
          <p:cNvSpPr/>
          <p:nvPr/>
        </p:nvSpPr>
        <p:spPr>
          <a:xfrm>
            <a:off x="7064280" y="2475000"/>
            <a:ext cx="669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8"/>
          <p:cNvSpPr/>
          <p:nvPr/>
        </p:nvSpPr>
        <p:spPr>
          <a:xfrm>
            <a:off x="7765920" y="3092400"/>
            <a:ext cx="370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框 9"/>
          <p:cNvSpPr/>
          <p:nvPr/>
        </p:nvSpPr>
        <p:spPr>
          <a:xfrm>
            <a:off x="3868560" y="4194000"/>
            <a:ext cx="48420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文本框 10"/>
          <p:cNvSpPr/>
          <p:nvPr/>
        </p:nvSpPr>
        <p:spPr>
          <a:xfrm>
            <a:off x="6372360" y="4194000"/>
            <a:ext cx="49500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文本框 11"/>
          <p:cNvSpPr/>
          <p:nvPr/>
        </p:nvSpPr>
        <p:spPr>
          <a:xfrm>
            <a:off x="2206800" y="4613400"/>
            <a:ext cx="75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长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文本框 12"/>
          <p:cNvSpPr/>
          <p:nvPr/>
        </p:nvSpPr>
        <p:spPr>
          <a:xfrm>
            <a:off x="4294080" y="4613400"/>
            <a:ext cx="453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文本框 13"/>
          <p:cNvSpPr/>
          <p:nvPr/>
        </p:nvSpPr>
        <p:spPr>
          <a:xfrm>
            <a:off x="6497640" y="4686480"/>
            <a:ext cx="369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文本框 14"/>
          <p:cNvSpPr/>
          <p:nvPr/>
        </p:nvSpPr>
        <p:spPr>
          <a:xfrm>
            <a:off x="1525680" y="5105520"/>
            <a:ext cx="555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文本框 1"/>
          <p:cNvSpPr/>
          <p:nvPr/>
        </p:nvSpPr>
        <p:spPr>
          <a:xfrm>
            <a:off x="299880" y="903240"/>
            <a:ext cx="784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判一判。正确的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“  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误的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“   ”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4"/>
          <p:cNvSpPr/>
          <p:nvPr/>
        </p:nvSpPr>
        <p:spPr>
          <a:xfrm>
            <a:off x="476280" y="1542960"/>
            <a:ext cx="73245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对边相等的四边形一定是长方形。       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5"/>
          <p:cNvSpPr/>
          <p:nvPr/>
        </p:nvSpPr>
        <p:spPr>
          <a:xfrm>
            <a:off x="4404600" y="8398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6"/>
          <p:cNvSpPr/>
          <p:nvPr/>
        </p:nvSpPr>
        <p:spPr>
          <a:xfrm>
            <a:off x="6931800" y="8398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8"/>
          <p:cNvSpPr/>
          <p:nvPr/>
        </p:nvSpPr>
        <p:spPr>
          <a:xfrm>
            <a:off x="561960" y="2384280"/>
            <a:ext cx="8420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四个角都是直角的四边形一定是正方形。 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文本框 9"/>
          <p:cNvSpPr/>
          <p:nvPr/>
        </p:nvSpPr>
        <p:spPr>
          <a:xfrm>
            <a:off x="561960" y="3214800"/>
            <a:ext cx="7686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长方形和正方形都是四边形。          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10"/>
          <p:cNvSpPr/>
          <p:nvPr/>
        </p:nvSpPr>
        <p:spPr>
          <a:xfrm>
            <a:off x="488880" y="3949560"/>
            <a:ext cx="89852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长方形的长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，宽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，它的周长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。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1"/>
          <p:cNvSpPr/>
          <p:nvPr/>
        </p:nvSpPr>
        <p:spPr>
          <a:xfrm>
            <a:off x="7297560" y="332748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4"/>
          <p:cNvSpPr/>
          <p:nvPr/>
        </p:nvSpPr>
        <p:spPr>
          <a:xfrm>
            <a:off x="7042320" y="1657440"/>
            <a:ext cx="5047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5"/>
          <p:cNvSpPr/>
          <p:nvPr/>
        </p:nvSpPr>
        <p:spPr>
          <a:xfrm>
            <a:off x="7128000" y="2498760"/>
            <a:ext cx="5047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6"/>
          <p:cNvSpPr/>
          <p:nvPr/>
        </p:nvSpPr>
        <p:spPr>
          <a:xfrm>
            <a:off x="7745400" y="44132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070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1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072" name="椭圆 4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3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椭圆 6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5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文本框 1"/>
          <p:cNvSpPr/>
          <p:nvPr/>
        </p:nvSpPr>
        <p:spPr>
          <a:xfrm>
            <a:off x="463680" y="627120"/>
            <a:ext cx="38066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选一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4"/>
          <p:cNvSpPr/>
          <p:nvPr/>
        </p:nvSpPr>
        <p:spPr>
          <a:xfrm>
            <a:off x="608040" y="1461960"/>
            <a:ext cx="78976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边长为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的正方形的周长是（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5"/>
          <p:cNvSpPr/>
          <p:nvPr/>
        </p:nvSpPr>
        <p:spPr>
          <a:xfrm>
            <a:off x="774720" y="2309760"/>
            <a:ext cx="588636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B.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  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C.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6"/>
          <p:cNvSpPr/>
          <p:nvPr/>
        </p:nvSpPr>
        <p:spPr>
          <a:xfrm>
            <a:off x="608040" y="3102120"/>
            <a:ext cx="78994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如图        中，甲、乙的周长相比，（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组合 10"/>
          <p:cNvGrpSpPr/>
          <p:nvPr/>
        </p:nvGrpSpPr>
        <p:grpSpPr>
          <a:xfrm>
            <a:off x="1708200" y="3195720"/>
            <a:ext cx="1155600" cy="863640"/>
            <a:chOff x="1708200" y="3195720"/>
            <a:chExt cx="1155600" cy="863640"/>
          </a:xfrm>
        </p:grpSpPr>
        <p:sp>
          <p:nvSpPr>
            <p:cNvPr id="1085" name="矩形 4"/>
            <p:cNvSpPr/>
            <p:nvPr/>
          </p:nvSpPr>
          <p:spPr>
            <a:xfrm>
              <a:off x="1779840" y="3339000"/>
              <a:ext cx="1080720" cy="72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任意多边形 6"/>
            <p:cNvSpPr/>
            <p:nvPr/>
          </p:nvSpPr>
          <p:spPr>
            <a:xfrm>
              <a:off x="1779840" y="3339000"/>
              <a:ext cx="1083960" cy="719280"/>
            </a:xfrm>
            <a:custGeom>
              <a:avLst/>
              <a:gdLst/>
              <a:ahLst/>
              <a:rect l="l" t="t" r="r" b="b"/>
              <a:pathLst>
                <a:path w="1042035" h="659765">
                  <a:moveTo>
                    <a:pt x="0" y="659765"/>
                  </a:moveTo>
                  <a:cubicBezTo>
                    <a:pt x="9525" y="644525"/>
                    <a:pt x="31115" y="608330"/>
                    <a:pt x="52070" y="577215"/>
                  </a:cubicBezTo>
                  <a:cubicBezTo>
                    <a:pt x="73025" y="546100"/>
                    <a:pt x="78740" y="529590"/>
                    <a:pt x="103505" y="504825"/>
                  </a:cubicBezTo>
                  <a:cubicBezTo>
                    <a:pt x="128270" y="480060"/>
                    <a:pt x="157480" y="478155"/>
                    <a:pt x="175895" y="453390"/>
                  </a:cubicBezTo>
                  <a:cubicBezTo>
                    <a:pt x="194310" y="428625"/>
                    <a:pt x="206375" y="399415"/>
                    <a:pt x="196215" y="381000"/>
                  </a:cubicBezTo>
                  <a:cubicBezTo>
                    <a:pt x="186055" y="362585"/>
                    <a:pt x="130175" y="379095"/>
                    <a:pt x="123825" y="360680"/>
                  </a:cubicBezTo>
                  <a:cubicBezTo>
                    <a:pt x="117475" y="342265"/>
                    <a:pt x="142240" y="311150"/>
                    <a:pt x="165100" y="288290"/>
                  </a:cubicBezTo>
                  <a:cubicBezTo>
                    <a:pt x="187960" y="265430"/>
                    <a:pt x="208280" y="261620"/>
                    <a:pt x="237490" y="247015"/>
                  </a:cubicBezTo>
                  <a:cubicBezTo>
                    <a:pt x="266700" y="232410"/>
                    <a:pt x="278765" y="224790"/>
                    <a:pt x="309880" y="216535"/>
                  </a:cubicBezTo>
                  <a:cubicBezTo>
                    <a:pt x="340995" y="208280"/>
                    <a:pt x="361315" y="210185"/>
                    <a:pt x="392430" y="205740"/>
                  </a:cubicBezTo>
                  <a:cubicBezTo>
                    <a:pt x="423545" y="201295"/>
                    <a:pt x="435610" y="201930"/>
                    <a:pt x="464185" y="195580"/>
                  </a:cubicBezTo>
                  <a:cubicBezTo>
                    <a:pt x="492760" y="189230"/>
                    <a:pt x="507365" y="177165"/>
                    <a:pt x="536575" y="175260"/>
                  </a:cubicBezTo>
                  <a:cubicBezTo>
                    <a:pt x="565785" y="173355"/>
                    <a:pt x="580390" y="179070"/>
                    <a:pt x="608965" y="185420"/>
                  </a:cubicBezTo>
                  <a:cubicBezTo>
                    <a:pt x="637540" y="191770"/>
                    <a:pt x="647700" y="207645"/>
                    <a:pt x="680720" y="205740"/>
                  </a:cubicBezTo>
                  <a:cubicBezTo>
                    <a:pt x="713740" y="203835"/>
                    <a:pt x="740410" y="187325"/>
                    <a:pt x="773430" y="175260"/>
                  </a:cubicBezTo>
                  <a:cubicBezTo>
                    <a:pt x="806450" y="163195"/>
                    <a:pt x="816610" y="156845"/>
                    <a:pt x="845820" y="144145"/>
                  </a:cubicBezTo>
                  <a:cubicBezTo>
                    <a:pt x="875030" y="131445"/>
                    <a:pt x="889000" y="127635"/>
                    <a:pt x="918210" y="113030"/>
                  </a:cubicBezTo>
                  <a:cubicBezTo>
                    <a:pt x="947420" y="98425"/>
                    <a:pt x="965835" y="94615"/>
                    <a:pt x="990600" y="71755"/>
                  </a:cubicBezTo>
                  <a:cubicBezTo>
                    <a:pt x="1015365" y="48895"/>
                    <a:pt x="1033145" y="13335"/>
                    <a:pt x="10420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文本框 8"/>
            <p:cNvSpPr/>
            <p:nvPr/>
          </p:nvSpPr>
          <p:spPr>
            <a:xfrm>
              <a:off x="1708200" y="3195720"/>
              <a:ext cx="466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文本框 9"/>
            <p:cNvSpPr/>
            <p:nvPr/>
          </p:nvSpPr>
          <p:spPr>
            <a:xfrm>
              <a:off x="2175120" y="3593160"/>
              <a:ext cx="466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文本框 11"/>
          <p:cNvSpPr/>
          <p:nvPr/>
        </p:nvSpPr>
        <p:spPr>
          <a:xfrm>
            <a:off x="923760" y="4321080"/>
            <a:ext cx="1549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文本框 12"/>
          <p:cNvSpPr/>
          <p:nvPr/>
        </p:nvSpPr>
        <p:spPr>
          <a:xfrm>
            <a:off x="2720880" y="4321080"/>
            <a:ext cx="1549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13"/>
          <p:cNvSpPr/>
          <p:nvPr/>
        </p:nvSpPr>
        <p:spPr>
          <a:xfrm>
            <a:off x="4846680" y="4321080"/>
            <a:ext cx="1549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样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14"/>
          <p:cNvSpPr/>
          <p:nvPr/>
        </p:nvSpPr>
        <p:spPr>
          <a:xfrm>
            <a:off x="709560" y="5021280"/>
            <a:ext cx="7104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图形中，不是四边形的是（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平行四边形 15"/>
          <p:cNvSpPr/>
          <p:nvPr/>
        </p:nvSpPr>
        <p:spPr>
          <a:xfrm>
            <a:off x="1708200" y="5640480"/>
            <a:ext cx="720720" cy="431640"/>
          </a:xfrm>
          <a:prstGeom prst="parallelogram">
            <a:avLst>
              <a:gd name="adj" fmla="val 250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16"/>
          <p:cNvSpPr/>
          <p:nvPr/>
        </p:nvSpPr>
        <p:spPr>
          <a:xfrm>
            <a:off x="923760" y="5641920"/>
            <a:ext cx="535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正五边形 17"/>
          <p:cNvSpPr/>
          <p:nvPr/>
        </p:nvSpPr>
        <p:spPr>
          <a:xfrm>
            <a:off x="3328920" y="5605560"/>
            <a:ext cx="719280" cy="503280"/>
          </a:xfrm>
          <a:prstGeom prst="pentagon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18"/>
          <p:cNvSpPr/>
          <p:nvPr/>
        </p:nvSpPr>
        <p:spPr>
          <a:xfrm>
            <a:off x="2793960" y="5727600"/>
            <a:ext cx="53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文本框 19"/>
          <p:cNvSpPr/>
          <p:nvPr/>
        </p:nvSpPr>
        <p:spPr>
          <a:xfrm>
            <a:off x="4870440" y="5727600"/>
            <a:ext cx="53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矩形 20"/>
          <p:cNvSpPr/>
          <p:nvPr/>
        </p:nvSpPr>
        <p:spPr>
          <a:xfrm>
            <a:off x="5519880" y="5654520"/>
            <a:ext cx="57600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文本框 21"/>
          <p:cNvSpPr/>
          <p:nvPr/>
        </p:nvSpPr>
        <p:spPr>
          <a:xfrm>
            <a:off x="5562720" y="1568520"/>
            <a:ext cx="5331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22"/>
          <p:cNvSpPr/>
          <p:nvPr/>
        </p:nvSpPr>
        <p:spPr>
          <a:xfrm>
            <a:off x="6794640" y="3206880"/>
            <a:ext cx="50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23"/>
          <p:cNvSpPr/>
          <p:nvPr/>
        </p:nvSpPr>
        <p:spPr>
          <a:xfrm>
            <a:off x="5370480" y="491796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103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4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105" name="椭圆 4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6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7" name="椭圆 6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8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2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文本框 1"/>
          <p:cNvSpPr/>
          <p:nvPr/>
        </p:nvSpPr>
        <p:spPr>
          <a:xfrm>
            <a:off x="299880" y="835200"/>
            <a:ext cx="78156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个长方形的长增加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，宽增加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，它的周长（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4"/>
          <p:cNvSpPr/>
          <p:nvPr/>
        </p:nvSpPr>
        <p:spPr>
          <a:xfrm>
            <a:off x="635040" y="2206800"/>
            <a:ext cx="246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增加了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5"/>
          <p:cNvSpPr/>
          <p:nvPr/>
        </p:nvSpPr>
        <p:spPr>
          <a:xfrm>
            <a:off x="2938320" y="2206800"/>
            <a:ext cx="246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增加了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6"/>
          <p:cNvSpPr/>
          <p:nvPr/>
        </p:nvSpPr>
        <p:spPr>
          <a:xfrm>
            <a:off x="5324400" y="2206800"/>
            <a:ext cx="246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增加了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8"/>
          <p:cNvSpPr/>
          <p:nvPr/>
        </p:nvSpPr>
        <p:spPr>
          <a:xfrm>
            <a:off x="378000" y="3062160"/>
            <a:ext cx="781524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用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边长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的小正方形拼成的图形中，周长最短的是（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组合 15"/>
          <p:cNvGrpSpPr/>
          <p:nvPr/>
        </p:nvGrpSpPr>
        <p:grpSpPr>
          <a:xfrm>
            <a:off x="1123920" y="4657680"/>
            <a:ext cx="865080" cy="577440"/>
            <a:chOff x="1123920" y="4657680"/>
            <a:chExt cx="865080" cy="577440"/>
          </a:xfrm>
        </p:grpSpPr>
        <p:sp>
          <p:nvSpPr>
            <p:cNvPr id="1119" name="矩形 9"/>
            <p:cNvSpPr/>
            <p:nvPr/>
          </p:nvSpPr>
          <p:spPr>
            <a:xfrm>
              <a:off x="1123920" y="465768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10"/>
            <p:cNvSpPr/>
            <p:nvPr/>
          </p:nvSpPr>
          <p:spPr>
            <a:xfrm>
              <a:off x="1412280" y="465768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矩形 11"/>
            <p:cNvSpPr/>
            <p:nvPr/>
          </p:nvSpPr>
          <p:spPr>
            <a:xfrm>
              <a:off x="1700640" y="465768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矩形 12"/>
            <p:cNvSpPr/>
            <p:nvPr/>
          </p:nvSpPr>
          <p:spPr>
            <a:xfrm>
              <a:off x="1123920" y="494640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矩形 13"/>
            <p:cNvSpPr/>
            <p:nvPr/>
          </p:nvSpPr>
          <p:spPr>
            <a:xfrm>
              <a:off x="1412280" y="494640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矩形 14"/>
            <p:cNvSpPr/>
            <p:nvPr/>
          </p:nvSpPr>
          <p:spPr>
            <a:xfrm>
              <a:off x="1700640" y="494640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组合 36"/>
          <p:cNvGrpSpPr/>
          <p:nvPr/>
        </p:nvGrpSpPr>
        <p:grpSpPr>
          <a:xfrm>
            <a:off x="3362400" y="4791240"/>
            <a:ext cx="1152360" cy="577440"/>
            <a:chOff x="3362400" y="4791240"/>
            <a:chExt cx="1152360" cy="577440"/>
          </a:xfrm>
        </p:grpSpPr>
        <p:sp>
          <p:nvSpPr>
            <p:cNvPr id="1126" name="矩形 16"/>
            <p:cNvSpPr/>
            <p:nvPr/>
          </p:nvSpPr>
          <p:spPr>
            <a:xfrm>
              <a:off x="3362400" y="4791240"/>
              <a:ext cx="28800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17"/>
            <p:cNvSpPr/>
            <p:nvPr/>
          </p:nvSpPr>
          <p:spPr>
            <a:xfrm>
              <a:off x="3650400" y="4791240"/>
              <a:ext cx="28800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矩形 18"/>
            <p:cNvSpPr/>
            <p:nvPr/>
          </p:nvSpPr>
          <p:spPr>
            <a:xfrm>
              <a:off x="3938400" y="4791240"/>
              <a:ext cx="28800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矩形 19"/>
            <p:cNvSpPr/>
            <p:nvPr/>
          </p:nvSpPr>
          <p:spPr>
            <a:xfrm>
              <a:off x="3650400" y="5079960"/>
              <a:ext cx="28800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20"/>
            <p:cNvSpPr/>
            <p:nvPr/>
          </p:nvSpPr>
          <p:spPr>
            <a:xfrm>
              <a:off x="3938400" y="5079960"/>
              <a:ext cx="28800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矩形 22"/>
            <p:cNvSpPr/>
            <p:nvPr/>
          </p:nvSpPr>
          <p:spPr>
            <a:xfrm>
              <a:off x="4226760" y="5079960"/>
              <a:ext cx="28800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组合 35"/>
          <p:cNvGrpSpPr/>
          <p:nvPr/>
        </p:nvGrpSpPr>
        <p:grpSpPr>
          <a:xfrm>
            <a:off x="6053040" y="4857840"/>
            <a:ext cx="1730520" cy="288720"/>
            <a:chOff x="6053040" y="4857840"/>
            <a:chExt cx="1730520" cy="288720"/>
          </a:xfrm>
        </p:grpSpPr>
        <p:sp>
          <p:nvSpPr>
            <p:cNvPr id="1133" name="矩形 23"/>
            <p:cNvSpPr/>
            <p:nvPr/>
          </p:nvSpPr>
          <p:spPr>
            <a:xfrm>
              <a:off x="6053040" y="485784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矩形 24"/>
            <p:cNvSpPr/>
            <p:nvPr/>
          </p:nvSpPr>
          <p:spPr>
            <a:xfrm>
              <a:off x="6341400" y="485784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矩形 25"/>
            <p:cNvSpPr/>
            <p:nvPr/>
          </p:nvSpPr>
          <p:spPr>
            <a:xfrm>
              <a:off x="6629760" y="485784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26"/>
            <p:cNvSpPr/>
            <p:nvPr/>
          </p:nvSpPr>
          <p:spPr>
            <a:xfrm>
              <a:off x="6918120" y="485784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矩形 27"/>
            <p:cNvSpPr/>
            <p:nvPr/>
          </p:nvSpPr>
          <p:spPr>
            <a:xfrm>
              <a:off x="7206840" y="485784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矩形 28"/>
            <p:cNvSpPr/>
            <p:nvPr/>
          </p:nvSpPr>
          <p:spPr>
            <a:xfrm>
              <a:off x="7495200" y="485784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文本框 37"/>
          <p:cNvSpPr/>
          <p:nvPr/>
        </p:nvSpPr>
        <p:spPr>
          <a:xfrm>
            <a:off x="488880" y="4657680"/>
            <a:ext cx="479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文本框 38"/>
          <p:cNvSpPr/>
          <p:nvPr/>
        </p:nvSpPr>
        <p:spPr>
          <a:xfrm>
            <a:off x="2681280" y="4724280"/>
            <a:ext cx="480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文本框 39"/>
          <p:cNvSpPr/>
          <p:nvPr/>
        </p:nvSpPr>
        <p:spPr>
          <a:xfrm>
            <a:off x="5324400" y="4791240"/>
            <a:ext cx="480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文本框 40"/>
          <p:cNvSpPr/>
          <p:nvPr/>
        </p:nvSpPr>
        <p:spPr>
          <a:xfrm>
            <a:off x="968400" y="1441440"/>
            <a:ext cx="360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文本框 41"/>
          <p:cNvSpPr/>
          <p:nvPr/>
        </p:nvSpPr>
        <p:spPr>
          <a:xfrm>
            <a:off x="1689120" y="361620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145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6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147" name="椭圆 4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8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椭圆 6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0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2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文本框 1"/>
          <p:cNvSpPr/>
          <p:nvPr/>
        </p:nvSpPr>
        <p:spPr>
          <a:xfrm>
            <a:off x="463680" y="847800"/>
            <a:ext cx="659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四、帮助图形找到家。（填序号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15"/>
          <p:cNvSpPr/>
          <p:nvPr/>
        </p:nvSpPr>
        <p:spPr>
          <a:xfrm>
            <a:off x="463680" y="4525920"/>
            <a:ext cx="13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边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文本框 16"/>
          <p:cNvSpPr/>
          <p:nvPr/>
        </p:nvSpPr>
        <p:spPr>
          <a:xfrm>
            <a:off x="3022560" y="4525920"/>
            <a:ext cx="1157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方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17"/>
          <p:cNvSpPr/>
          <p:nvPr/>
        </p:nvSpPr>
        <p:spPr>
          <a:xfrm>
            <a:off x="5635800" y="4525920"/>
            <a:ext cx="1114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方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组合 28"/>
          <p:cNvGrpSpPr/>
          <p:nvPr/>
        </p:nvGrpSpPr>
        <p:grpSpPr>
          <a:xfrm>
            <a:off x="971640" y="1700280"/>
            <a:ext cx="4155840" cy="2498760"/>
            <a:chOff x="971640" y="1700280"/>
            <a:chExt cx="4155840" cy="2498760"/>
          </a:xfrm>
        </p:grpSpPr>
        <p:sp>
          <p:nvSpPr>
            <p:cNvPr id="1160" name="平行四边形 4"/>
            <p:cNvSpPr/>
            <p:nvPr/>
          </p:nvSpPr>
          <p:spPr>
            <a:xfrm>
              <a:off x="971640" y="1802520"/>
              <a:ext cx="720000" cy="431640"/>
            </a:xfrm>
            <a:prstGeom prst="parallelogram">
              <a:avLst>
                <a:gd name="adj" fmla="val 2500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矩形 5"/>
            <p:cNvSpPr/>
            <p:nvPr/>
          </p:nvSpPr>
          <p:spPr>
            <a:xfrm>
              <a:off x="2163960" y="1802520"/>
              <a:ext cx="72000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等腰三角形 6"/>
            <p:cNvSpPr/>
            <p:nvPr/>
          </p:nvSpPr>
          <p:spPr>
            <a:xfrm flipH="1" rot="10800000">
              <a:off x="3517200" y="1766160"/>
              <a:ext cx="575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矩形 8"/>
            <p:cNvSpPr/>
            <p:nvPr/>
          </p:nvSpPr>
          <p:spPr>
            <a:xfrm rot="5400000">
              <a:off x="899280" y="2595960"/>
              <a:ext cx="72000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梯形 9"/>
            <p:cNvSpPr/>
            <p:nvPr/>
          </p:nvSpPr>
          <p:spPr>
            <a:xfrm>
              <a:off x="2163960" y="2451960"/>
              <a:ext cx="782280" cy="504000"/>
            </a:xfrm>
            <a:custGeom>
              <a:avLst/>
              <a:gdLst/>
              <a:ahLst/>
              <a:rect l="l" t="t" r="r" b="b"/>
              <a:pathLst>
                <a:path w="1232" h="794">
                  <a:moveTo>
                    <a:pt x="0" y="794"/>
                  </a:moveTo>
                  <a:lnTo>
                    <a:pt x="198" y="0"/>
                  </a:lnTo>
                  <a:lnTo>
                    <a:pt x="1033" y="0"/>
                  </a:lnTo>
                  <a:lnTo>
                    <a:pt x="1232" y="79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矩形 10"/>
            <p:cNvSpPr/>
            <p:nvPr/>
          </p:nvSpPr>
          <p:spPr>
            <a:xfrm rot="21060000">
              <a:off x="3708360" y="2631960"/>
              <a:ext cx="35964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11"/>
            <p:cNvSpPr/>
            <p:nvPr/>
          </p:nvSpPr>
          <p:spPr>
            <a:xfrm>
              <a:off x="4695840" y="2586600"/>
              <a:ext cx="43164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菱形 12"/>
            <p:cNvSpPr/>
            <p:nvPr/>
          </p:nvSpPr>
          <p:spPr>
            <a:xfrm>
              <a:off x="972000" y="3406680"/>
              <a:ext cx="575640" cy="792360"/>
            </a:xfrm>
            <a:prstGeom prst="diamond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平行四边形 13"/>
            <p:cNvSpPr/>
            <p:nvPr/>
          </p:nvSpPr>
          <p:spPr>
            <a:xfrm rot="5400000">
              <a:off x="2163240" y="3550680"/>
              <a:ext cx="720000" cy="431640"/>
            </a:xfrm>
            <a:prstGeom prst="parallelogram">
              <a:avLst>
                <a:gd name="adj" fmla="val 2500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矩形 14"/>
            <p:cNvSpPr/>
            <p:nvPr/>
          </p:nvSpPr>
          <p:spPr>
            <a:xfrm rot="3000000">
              <a:off x="3598200" y="3431520"/>
              <a:ext cx="575640" cy="57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文本框 18"/>
            <p:cNvSpPr/>
            <p:nvPr/>
          </p:nvSpPr>
          <p:spPr>
            <a:xfrm>
              <a:off x="1044000" y="1802520"/>
              <a:ext cx="5065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文本框 19"/>
            <p:cNvSpPr/>
            <p:nvPr/>
          </p:nvSpPr>
          <p:spPr>
            <a:xfrm>
              <a:off x="2270520" y="1811160"/>
              <a:ext cx="5065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文本框 20"/>
            <p:cNvSpPr/>
            <p:nvPr/>
          </p:nvSpPr>
          <p:spPr>
            <a:xfrm>
              <a:off x="972000" y="2586600"/>
              <a:ext cx="5065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文本框 21"/>
            <p:cNvSpPr/>
            <p:nvPr/>
          </p:nvSpPr>
          <p:spPr>
            <a:xfrm>
              <a:off x="3553920" y="1700280"/>
              <a:ext cx="5065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文本框 22"/>
            <p:cNvSpPr/>
            <p:nvPr/>
          </p:nvSpPr>
          <p:spPr>
            <a:xfrm>
              <a:off x="2307960" y="2443320"/>
              <a:ext cx="5065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文本框 23"/>
            <p:cNvSpPr/>
            <p:nvPr/>
          </p:nvSpPr>
          <p:spPr>
            <a:xfrm>
              <a:off x="3611520" y="251496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文本框 24"/>
            <p:cNvSpPr/>
            <p:nvPr/>
          </p:nvSpPr>
          <p:spPr>
            <a:xfrm>
              <a:off x="4624920" y="251568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文本框 25"/>
            <p:cNvSpPr/>
            <p:nvPr/>
          </p:nvSpPr>
          <p:spPr>
            <a:xfrm>
              <a:off x="993240" y="347940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文本框 26"/>
            <p:cNvSpPr/>
            <p:nvPr/>
          </p:nvSpPr>
          <p:spPr>
            <a:xfrm>
              <a:off x="2292120" y="351504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文本框 27"/>
            <p:cNvSpPr/>
            <p:nvPr/>
          </p:nvSpPr>
          <p:spPr>
            <a:xfrm>
              <a:off x="3611520" y="346932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圆角矩形 35"/>
          <p:cNvSpPr/>
          <p:nvPr/>
        </p:nvSpPr>
        <p:spPr>
          <a:xfrm>
            <a:off x="2946240" y="4489560"/>
            <a:ext cx="2275200" cy="1644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圆角矩形 36"/>
          <p:cNvSpPr/>
          <p:nvPr/>
        </p:nvSpPr>
        <p:spPr>
          <a:xfrm>
            <a:off x="463680" y="4525920"/>
            <a:ext cx="2252520" cy="16779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圆角矩形 37"/>
          <p:cNvSpPr/>
          <p:nvPr/>
        </p:nvSpPr>
        <p:spPr>
          <a:xfrm>
            <a:off x="5562720" y="4489560"/>
            <a:ext cx="2305080" cy="1644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组合 13"/>
          <p:cNvGrpSpPr/>
          <p:nvPr/>
        </p:nvGrpSpPr>
        <p:grpSpPr>
          <a:xfrm>
            <a:off x="507240" y="5129280"/>
            <a:ext cx="2207160" cy="1024560"/>
            <a:chOff x="507240" y="5129280"/>
            <a:chExt cx="2207160" cy="1024560"/>
          </a:xfrm>
        </p:grpSpPr>
        <p:sp>
          <p:nvSpPr>
            <p:cNvPr id="1184" name="文本框 39"/>
            <p:cNvSpPr/>
            <p:nvPr/>
          </p:nvSpPr>
          <p:spPr>
            <a:xfrm>
              <a:off x="507240" y="512928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文本框 40"/>
            <p:cNvSpPr/>
            <p:nvPr/>
          </p:nvSpPr>
          <p:spPr>
            <a:xfrm>
              <a:off x="983160" y="512928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文本框 41"/>
            <p:cNvSpPr/>
            <p:nvPr/>
          </p:nvSpPr>
          <p:spPr>
            <a:xfrm>
              <a:off x="1469880" y="512928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文本框 42"/>
            <p:cNvSpPr/>
            <p:nvPr/>
          </p:nvSpPr>
          <p:spPr>
            <a:xfrm>
              <a:off x="1956960" y="512928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文本框 43"/>
            <p:cNvSpPr/>
            <p:nvPr/>
          </p:nvSpPr>
          <p:spPr>
            <a:xfrm>
              <a:off x="507240" y="564840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文本框 44"/>
            <p:cNvSpPr/>
            <p:nvPr/>
          </p:nvSpPr>
          <p:spPr>
            <a:xfrm>
              <a:off x="972360" y="563256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文本框 45"/>
            <p:cNvSpPr/>
            <p:nvPr/>
          </p:nvSpPr>
          <p:spPr>
            <a:xfrm>
              <a:off x="1459080" y="564840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文本框 46"/>
            <p:cNvSpPr/>
            <p:nvPr/>
          </p:nvSpPr>
          <p:spPr>
            <a:xfrm>
              <a:off x="1823400" y="564840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文本框 47"/>
            <p:cNvSpPr/>
            <p:nvPr/>
          </p:nvSpPr>
          <p:spPr>
            <a:xfrm>
              <a:off x="2230560" y="564840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组合 14"/>
          <p:cNvGrpSpPr/>
          <p:nvPr/>
        </p:nvGrpSpPr>
        <p:grpSpPr>
          <a:xfrm>
            <a:off x="3125160" y="5207040"/>
            <a:ext cx="1052640" cy="505440"/>
            <a:chOff x="3125160" y="5207040"/>
            <a:chExt cx="1052640" cy="505440"/>
          </a:xfrm>
        </p:grpSpPr>
        <p:sp>
          <p:nvSpPr>
            <p:cNvPr id="1194" name="文本框 48"/>
            <p:cNvSpPr/>
            <p:nvPr/>
          </p:nvSpPr>
          <p:spPr>
            <a:xfrm>
              <a:off x="3125160" y="520704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文本框 49"/>
            <p:cNvSpPr/>
            <p:nvPr/>
          </p:nvSpPr>
          <p:spPr>
            <a:xfrm>
              <a:off x="3693960" y="520704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组合 15"/>
          <p:cNvGrpSpPr/>
          <p:nvPr/>
        </p:nvGrpSpPr>
        <p:grpSpPr>
          <a:xfrm>
            <a:off x="5865120" y="5113440"/>
            <a:ext cx="1083240" cy="521280"/>
            <a:chOff x="5865120" y="5113440"/>
            <a:chExt cx="1083240" cy="521280"/>
          </a:xfrm>
        </p:grpSpPr>
        <p:sp>
          <p:nvSpPr>
            <p:cNvPr id="1197" name="文本框 51"/>
            <p:cNvSpPr/>
            <p:nvPr/>
          </p:nvSpPr>
          <p:spPr>
            <a:xfrm>
              <a:off x="5865120" y="512928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文本框 52"/>
            <p:cNvSpPr/>
            <p:nvPr/>
          </p:nvSpPr>
          <p:spPr>
            <a:xfrm>
              <a:off x="6464520" y="511344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200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1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202" name="椭圆 4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3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椭圆 6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5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9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0" name="文本框 47"/>
          <p:cNvSpPr/>
          <p:nvPr/>
        </p:nvSpPr>
        <p:spPr>
          <a:xfrm>
            <a:off x="4330080" y="5218200"/>
            <a:ext cx="48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文本框 1"/>
          <p:cNvSpPr/>
          <p:nvPr/>
        </p:nvSpPr>
        <p:spPr>
          <a:xfrm>
            <a:off x="158760" y="720720"/>
            <a:ext cx="2563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4"/>
          <p:cNvSpPr/>
          <p:nvPr/>
        </p:nvSpPr>
        <p:spPr>
          <a:xfrm>
            <a:off x="279360" y="1474920"/>
            <a:ext cx="790740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华沿着一个边长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的正方形池塘跑了两圈，他一共跑了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文本框 5"/>
          <p:cNvSpPr/>
          <p:nvPr/>
        </p:nvSpPr>
        <p:spPr>
          <a:xfrm>
            <a:off x="1276200" y="3141720"/>
            <a:ext cx="4859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=6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文本框 6"/>
          <p:cNvSpPr/>
          <p:nvPr/>
        </p:nvSpPr>
        <p:spPr>
          <a:xfrm>
            <a:off x="905040" y="3855960"/>
            <a:ext cx="64036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他一共跑了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5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216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7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218" name="椭圆 4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9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0" name="椭圆 6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1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2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3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4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5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文本框 1"/>
          <p:cNvSpPr/>
          <p:nvPr/>
        </p:nvSpPr>
        <p:spPr>
          <a:xfrm>
            <a:off x="281160" y="876240"/>
            <a:ext cx="85388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块长方形菜地，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，宽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。四周围上篱笆，篱笆长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文本框 5"/>
          <p:cNvSpPr/>
          <p:nvPr/>
        </p:nvSpPr>
        <p:spPr>
          <a:xfrm>
            <a:off x="1276200" y="2822400"/>
            <a:ext cx="48596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0+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=1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=3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文本框 4"/>
          <p:cNvSpPr/>
          <p:nvPr/>
        </p:nvSpPr>
        <p:spPr>
          <a:xfrm>
            <a:off x="1352520" y="3794040"/>
            <a:ext cx="29862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篱笆长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230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1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232" name="椭圆 4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3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4" name="椭圆 6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5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6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7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8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9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7:11:36Z</dcterms:created>
  <dc:creator/>
  <dc:description/>
  <dc:language>en-US</dc:language>
  <cp:lastModifiedBy>万润仪器贸易公司</cp:lastModifiedBy>
  <dcterms:modified xsi:type="dcterms:W3CDTF">2020-08-21T01:29:4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